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3A9-0693-4E43-ACB5-12E06CB2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94C-9759-4CFE-B9BC-570E8162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672-B14A-445D-8B38-0E894708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774-0B50-4086-B2F9-75167062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5E25-C04E-4407-857C-630D1B59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4838-28BE-4A2D-9C61-13BAE9F4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3B91-E286-4E82-AB80-D726F41F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ED4C-ED09-49CA-93A0-0E0742DA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9092-4C6C-4E01-993A-30128662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6115-A520-492F-BAF2-EFD20943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F7EA-6515-44C3-82A7-2A94D27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394-A648-4A77-9CF3-75C309EB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2B69-4F6A-4F8C-A65B-1367CDCE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A8AC-7ED4-43B3-BBBD-23C768FB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1FCD-9253-4745-9B35-1E617A12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E0A6-422A-4565-B716-013BBF87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3E51-0943-436B-B024-4566E77E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47F-78C8-4C68-AB84-0E42B87F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EC8-B297-49BE-8EA6-B16D5FD5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BA3-E4DF-40FC-A62D-B247F55E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F95-CDE5-4A52-9660-5E2E1AF7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11D-0A8D-45F4-BCF6-921A9B3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32D-CEF7-4105-879A-FE25FC31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7FA-1F7A-43A9-8E89-B8F041EC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1971-E079-45FC-8B9B-87AB8B362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B7C7-DD35-44AF-8533-4867C7575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8680" y="9907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4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0574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5°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pete a Uni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V – legislar sob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iquezas do subso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ne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metalurgia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gu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nergia elétrica, floresta, caça e pesc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8:32:49Z</dcterms:modified>
  <cp:revision>73</cp:revision>
  <dc:subject/>
  <dc:title>Apresentação do PowerPoint</dc:title>
</cp:coreProperties>
</file>